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106-4578-4352-906C-2585EBB7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77E-6B53-4A56-A2EA-3048CFD1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325-845E-4A6B-B943-BD3C6D16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2AE-7D91-47F9-A62C-1EB4247D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542-6363-4F8C-BA6F-4541ABA0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85D-323E-42C1-84EF-5E13F686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948-CF43-4B4B-ABAE-670CD199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09E-95D7-4C25-9599-74F97E59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EB1-2220-4DC5-B858-91A193B4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593-2C9B-488C-92ED-CB5AF67D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1B8-CA22-4F5D-B330-135DCE6D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E70-5E9E-4773-B325-985F353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7FFD-0CFA-4EF0-B045-049B77AED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142920" y="142920"/>
            <a:ext cx="8786880" cy="6522480"/>
            <a:chOff x="142920" y="142920"/>
            <a:chExt cx="8786880" cy="6522480"/>
          </a:xfrm>
        </p:grpSpPr>
        <p:sp>
          <p:nvSpPr>
            <p:cNvPr id="42" name="TextBox 17"/>
            <p:cNvSpPr/>
            <p:nvPr/>
          </p:nvSpPr>
          <p:spPr>
            <a:xfrm>
              <a:off x="1928880" y="357120"/>
              <a:ext cx="4429080" cy="112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The Big  Ide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ople make links and develop feelings for special plac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liefs, values and past experiences impact on  our perceptions of  why places are spe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ople and places change over tim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pecial places can influence people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15"/>
            <p:cNvSpPr/>
            <p:nvPr/>
          </p:nvSpPr>
          <p:spPr>
            <a:xfrm>
              <a:off x="2786040" y="1581120"/>
              <a:ext cx="300024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The context is:  </a:t>
              </a:r>
              <a:r>
                <a:rPr b="1" lang="en-NZ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pecial Pla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40"/>
            <p:cNvSpPr/>
            <p:nvPr/>
          </p:nvSpPr>
          <p:spPr>
            <a:xfrm>
              <a:off x="4143600" y="4143600"/>
              <a:ext cx="2143080" cy="246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Engagement, Relevance and Motiv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70c0"/>
                  </a:solidFill>
                  <a:latin typeface="Calibri"/>
                </a:rPr>
                <a:t>How do we start or continue the learning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70c0"/>
                  </a:solidFill>
                  <a:latin typeface="Calibri"/>
                </a:rPr>
                <a:t>Revisit previous learning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20"/>
            <p:cNvSpPr/>
            <p:nvPr/>
          </p:nvSpPr>
          <p:spPr>
            <a:xfrm>
              <a:off x="6429600" y="142920"/>
              <a:ext cx="2500200" cy="301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Curriculum Connection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Social Sci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Englis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Listening, reading and view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Speaking, writing, and presen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The Arts: Music – Sound A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Developing Practical 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Communicating and Interpr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</a:rPr>
                <a:t>Vis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Conne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</a:rPr>
                <a:t>Principles</a:t>
              </a: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Treaty of Waitang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Cultural D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Inclu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Learning to Lea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Community Enga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23"/>
            <p:cNvSpPr/>
            <p:nvPr/>
          </p:nvSpPr>
          <p:spPr>
            <a:xfrm>
              <a:off x="6429600" y="3286080"/>
              <a:ext cx="2500200" cy="337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Key Questions and Inqui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What makes a place special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Student led inquiry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Teacher guided inquiry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18"/>
            <p:cNvSpPr/>
            <p:nvPr/>
          </p:nvSpPr>
          <p:spPr>
            <a:xfrm>
              <a:off x="1928880" y="1901880"/>
              <a:ext cx="4429080" cy="2148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Key Learning: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The students will learn how people perceive, represent, interpret and interact with special places(p.30 NZC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</a:rPr>
                <a:t>Students develop their understanding and acceptance that different people may have different values from their ow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</a:rPr>
                <a:t>Students develop a respect for protocols attached to special places.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Key Concepts and understandings: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</a:rPr>
                <a:t>Everybody has a set of valu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</a:rPr>
                <a:t>There are different kinds of values such as cultural, aesthetic, and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Skills, attitudes and competenci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serving, listening, asking questions, forming opinions, explaining and justifying ideas, informing other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nking, Participating, Using Languages, Symbols and Tex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2"/>
            <p:cNvSpPr/>
            <p:nvPr/>
          </p:nvSpPr>
          <p:spPr>
            <a:xfrm>
              <a:off x="142920" y="142920"/>
              <a:ext cx="1714320" cy="374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Success Criteria and Assessment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70c0"/>
                  </a:solidFill>
                  <a:latin typeface="Calibri"/>
                </a:rPr>
                <a:t>What does the learning look lik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4"/>
            <p:cNvSpPr/>
            <p:nvPr/>
          </p:nvSpPr>
          <p:spPr>
            <a:xfrm>
              <a:off x="142920" y="4143600"/>
              <a:ext cx="3786120" cy="246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Overarching Learning Intention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70c0"/>
                  </a:solidFill>
                  <a:latin typeface="Calibri"/>
                </a:rPr>
                <a:t>What do we want our kids to actually learn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1"/>
          <p:cNvSpPr/>
          <p:nvPr/>
        </p:nvSpPr>
        <p:spPr>
          <a:xfrm>
            <a:off x="2786040" y="71280"/>
            <a:ext cx="271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raft Planning -  Term 4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1:59:57Z</dcterms:created>
  <dc:creator>loveless</dc:creator>
  <dc:description/>
  <dc:language>en-US</dc:language>
  <cp:lastModifiedBy>maryjam</cp:lastModifiedBy>
  <dcterms:modified xsi:type="dcterms:W3CDTF">2011-01-09T20:29:33Z</dcterms:modified>
  <cp:revision>32</cp:revision>
  <dc:subject/>
  <dc:title>Slide 1</dc:title>
</cp:coreProperties>
</file>